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23.jpeg" ContentType="image/jpeg"/>
  <Override PartName="/ppt/media/image18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9EB-1344-44A5-AF7A-53415C3E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741-7935-4129-A758-ECFDF784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4C5-94A4-435A-BB1C-A01EE964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78B-165B-48AD-A46F-3577C269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EC7A-B842-4913-B568-A0FE187A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2638-A44E-4A99-B051-BD08ADF0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796B-3837-4E4E-85F0-D186D441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03C2-D46D-4C9A-A4C2-4D58A29B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901F-EB5E-4C68-8B69-237F09E2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1A66-7285-4A58-8EF6-8A15FBF5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9E75-9B0F-48C0-A239-EA06E350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059-C7DD-4521-AD7D-C08688E9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1D47-EF00-4158-8F60-1C211605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F9B4-28DA-43DF-8C3A-A9B0A687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31B2-DE6B-43EA-A600-E5DE3AE5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7329-9E32-4214-8DD0-93C41325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6A98-ADFA-4434-9DA2-C1246A30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2C34-E81E-493C-9FF3-B27E17F5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16C2-D9C7-44A5-A5F8-4CF59B09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7946-B78F-45B2-8BE3-0F295570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1395-FA6F-4B60-A535-3BF5D5D1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6AE96-AB6E-47F7-9151-B0F1D1A4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EBA-D2B9-4710-A777-67A879A9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516EB-6AF6-4513-9D71-26ED56A3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549F-879B-415E-808E-9C80CB93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5350-4E11-4EFA-A5CA-71BCB0F0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3485-E549-4AA3-80D4-2B0BA439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021F-8411-4ED1-8933-53D0A9E4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94E7-8C2B-4608-B615-8E10DF2E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B255-EA33-4671-A091-619FAA6B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27194E-2694-41C3-B606-39858051B8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EDAEB1-C0EF-4716-846F-F4218F1016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C0B02-858D-43C9-B6AC-7830F3631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32B-37DC-462A-B6EB-7C689A7B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1E497-BE51-4724-9426-EB1BA8E132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5DA43-8955-4A7B-BD55-4D558BD9E4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E43662-AA49-428F-87F2-3730F56C03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65E9C-371D-41D6-A2C8-FDAAC24CE1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BB7C6-A47A-40E7-98A0-0927B577C0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E3B58-16F0-4B2C-82DD-2EC5A28F56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61DFE-3665-4E1B-B5C3-8E9677CD6C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0D13F-53CB-4B1C-B8AA-3FDD48A47C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73869-B3CE-4B51-B15C-0B12FB66E1A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A2A8A-8B80-444A-93F9-5685CAE46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081-C123-4BF3-8972-D49DB966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E6D8D-2870-487C-93F2-87BED1A24A8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F816A-B64A-4505-802E-C29344EE11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313F3-4C9F-4597-B6D0-F9CB982F4DA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AD6C-8D56-4F9D-B84D-42FE3848D2C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58519-DBA0-4A50-9DAE-D97E1B08DF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374B-FD3C-4662-92D8-0765355159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89B47-FE88-41E9-AC9A-2A1FDB513E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39DCE-54DE-436E-BED6-01B6332B316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7E4C-F374-4353-83D4-7108792F2F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59D1-A11F-401B-BB33-69806EF6A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F88-0961-4066-A28C-B35856A1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D108F-09FC-4483-AED7-F69F3F85A2B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E5E66-37B4-4623-8C8A-CE2F4D5FC0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27763-4DD5-4969-8920-DE2A1420064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7FB0F-2411-4E71-80C1-F0B6E65203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8AAFD-A6BF-45F3-A741-F24587DC66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3D684-6084-412B-A711-EAED8FA696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DC116-E43D-4777-95DF-07C671B4CC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4CB77-E8BA-4B96-AAFF-B9F939C549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245F5-C3CB-424D-BA0D-84AADD53F4C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3799-8C49-4291-8C48-920C69CA7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546-4CCC-45E0-9FA2-7A286AE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C2A5C-0A76-4647-975C-D49D9ED757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A76F1-231E-46A9-BF32-47F8E442A84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B1EA1-A6EC-4DE5-BC3C-B368C1DF6C5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4C387-CC50-4617-A525-DA8D1568B9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EA478-5E08-4826-B362-9B11CBF1FD5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7325E-9E8D-4B46-A740-219F96D7A5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E84A5-DD94-4D1E-A0BD-390C0657C4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78368-B7C2-48B0-912A-561BACCA253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EDC87-33D6-42E0-8A6E-486B6BD30E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748DF-F5B2-4992-8B9D-7FBE72B2A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EB8-5F68-4736-AFF8-07C1BD19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FC2E9-4590-48D8-BD57-FA1F74FDCFF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8A67D-FDF9-4546-AF81-512B70F821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A3F5A-C57E-446E-9910-EADE16F853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9A395-63B7-48EB-9FE3-69FC3DF920D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4785D-A01E-48EC-AC94-76DAAE262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28F-20C0-415B-8B51-B6767D0D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9DFA-2FE4-4EFD-8BCF-A5305A11B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C64A-1F9C-4CBE-A0AE-D5DF84C3A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0339-DBE1-4987-A543-78A05151D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7768A87-4946-4F1F-9CC2-E4BA9E287C8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A7C7D69-C29E-43B8-BF83-824D52E45D5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ftr" idx="14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1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16D0C63-23C8-475E-A357-FC26390EFC7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5E5FA7E-7D5A-4D4E-B02D-AE7DFF5C3CA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2FC3CDA-C69E-4CD5-AFC5-1165DC693C0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repreneurship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on, Promotion, and S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EC36-5DC2-455F-BAC6-03E520306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 Goods and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nufacturing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usually sell directly to 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ir products &amp; sell to other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ill distribute their products very broadly and use many chann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ill distribute throug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outlets on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e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En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clusive Department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ensiv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count Stores &amp; Drug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Manufacturing / Production / Operations Jobs"/>
          <p:cNvPicPr/>
          <p:nvPr/>
        </p:nvPicPr>
        <p:blipFill>
          <a:blip r:embed="rId1"/>
          <a:stretch/>
        </p:blipFill>
        <p:spPr>
          <a:xfrm>
            <a:off x="5867280" y="3886200"/>
            <a:ext cx="30006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DF56-4E0C-494F-8064-2BF8013AB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Distribution includ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Storage and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roducts within a channel of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xt 3 slid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18FE-5612-4225-B07F-018A9B9F3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what and where you are sh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shables need refrigeration &amp;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, Railroad, Ship, Truck, Combin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C:\Users\jsundlin\AppData\Local\Microsoft\Windows\Temporary Internet Files\Content.IE5\JUFR2GF8\MC900389882[1].wmf"/>
          <p:cNvPicPr/>
          <p:nvPr/>
        </p:nvPicPr>
        <p:blipFill>
          <a:blip r:embed="rId1"/>
          <a:stretch/>
        </p:blipFill>
        <p:spPr>
          <a:xfrm>
            <a:off x="0" y="3429000"/>
            <a:ext cx="2514600" cy="1758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C:\Users\jsundlin\AppData\Local\Microsoft\Windows\Temporary Internet Files\Content.IE5\LKQBTLF8\MC900320954[1].wmf"/>
          <p:cNvPicPr/>
          <p:nvPr/>
        </p:nvPicPr>
        <p:blipFill>
          <a:blip r:embed="rId2"/>
          <a:stretch/>
        </p:blipFill>
        <p:spPr>
          <a:xfrm>
            <a:off x="1752480" y="4584600"/>
            <a:ext cx="2514600" cy="2273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C:\Users\jsundlin\AppData\Local\Microsoft\Windows\Temporary Internet Files\Content.IE5\JUFR2GF8\MC900331995[1].wmf"/>
          <p:cNvPicPr/>
          <p:nvPr/>
        </p:nvPicPr>
        <p:blipFill>
          <a:blip r:embed="rId3"/>
          <a:stretch/>
        </p:blipFill>
        <p:spPr>
          <a:xfrm>
            <a:off x="4419720" y="3581280"/>
            <a:ext cx="2286000" cy="2297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:\Users\jsundlin\AppData\Local\Microsoft\Windows\Temporary Internet Files\Content.IE5\EF1AETK0\MC900434835[1].png"/>
          <p:cNvPicPr/>
          <p:nvPr/>
        </p:nvPicPr>
        <p:blipFill>
          <a:blip r:embed="rId4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BC11-C1D0-46D0-9570-B353439DD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 Storage and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storage allow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nels to bala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and demand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to cost of produc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damage or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in warehous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various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C:\Users\jsundlin\AppData\Local\Microsoft\Windows\Temporary Internet Files\Content.IE5\JUFR2GF8\MC900230701[1].wmf"/>
          <p:cNvPicPr/>
          <p:nvPr/>
        </p:nvPicPr>
        <p:blipFill>
          <a:blip r:embed="rId1"/>
          <a:stretch/>
        </p:blipFill>
        <p:spPr>
          <a:xfrm>
            <a:off x="4822920" y="2209680"/>
            <a:ext cx="4321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2DEE-37C6-4D28-8484-658A93F0E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protect the product from the time it is produced until it is consu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from being damaged/destroyed which would result in loss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product, shipping &amp; destination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eiving Goods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ypes of businesses must receive goods from suppliers even if they don’t sell them to consumers (office supplies, raw materi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12EE-A29A-430F-8276-9725060D8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are the 4 basic options of channels of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 M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               #3 M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 M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         #4 M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y are channels of distribution different for different types of busi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 needs are based on size of market, type of product/service, and customer needs &amp; wa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factors are important to consider in the physical distribution of produ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 Transportation           #2 Product Storage Handling #3 Packaging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9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3D23-9966-423E-ACC6-52E3A4D84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e Marketing Mix - Promo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6-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many forms of advertising and discuss the advantages and disadvantages of each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ublicity and describe ways to use publicity as a promotional t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7D71-82CD-417E-A886-7D9E23DEC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n Small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think Chachi’s idea for an opening day promotion ids a good one? Why or Why No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suggest some alternative promotions that Chachi might 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9A69-C672-4169-B7AE-25EAEC414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have to promote your business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 customers aw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benefits of buying from you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on can take many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, Publicity, Personal Selling, Sales Promo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onal Mix – strategy created by adopting a blend of some, if not all the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7F92-5B66-4206-A6C3-A5247217B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onal Strateg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verti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aid form of communication sent out by a business about a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s your product in the public’s eye by creating a sense of awar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you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arefu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http://business.phillipmartin.info/la_advertising.gif"/>
          <p:cNvPicPr/>
          <p:nvPr/>
        </p:nvPicPr>
        <p:blipFill>
          <a:blip r:embed="rId1"/>
          <a:stretch/>
        </p:blipFill>
        <p:spPr>
          <a:xfrm>
            <a:off x="4316400" y="4191120"/>
            <a:ext cx="482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5A24-2714-4A60-B5F1-1C3DC6FD2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eting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meet customer needs and enables the business to earn a prof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ing target market through a blend of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mo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AE65-E36B-4F21-938F-40A08601B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Online Advertis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anner 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graphic image or animation displayed within a rectangular box across top or down the side of a web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oating 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n ad which moves across the screen or floats above the page con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Wallpaper 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n ad which changes the background of the page being vie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ick Bann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 banner ad that looks like a dialog box with buttons, often appearing like an error message or ale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op-Up 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 new window that opens in front of the current one, displaying an advertise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F1B3-E445-4E83-B442-8C8124F42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for Online Advertis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st per Mil (CPM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exposure of the messa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st per Click (CP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number of user clicks on 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st per Action (CP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user completing form, registering for newsletter or some other acti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use – spamming: sending mass bulk ema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ssive use of pop-ups, flashy banners and spam has cause internet users to block these advertisemen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D316-6FFD-4F67-BF96-02404DFA5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vision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Promotions reach millions every da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way to reach large numbers quickl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s and Paid Ads (Infomercial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too broad of an aud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C:\Users\jsundlin\AppData\Local\Microsoft\Windows\Temporary Internet Files\Content.IE5\EF1AETK0\MC900186162[1].wmf"/>
          <p:cNvPicPr/>
          <p:nvPr/>
        </p:nvPicPr>
        <p:blipFill>
          <a:blip r:embed="rId1"/>
          <a:stretch/>
        </p:blipFill>
        <p:spPr>
          <a:xfrm>
            <a:off x="6248520" y="4019400"/>
            <a:ext cx="28954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A2DC-84D2-476C-8558-0DB7052EC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7712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expensive that television promo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ertain you are reaching target mark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Stations tend to narrow down the target market for yo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ly audio, no visuals of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s may not remember what they 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s may change station at commerc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C:\Users\jsundlin\AppData\Local\Microsoft\Windows\Temporary Internet Files\Content.IE5\JUFR2GF8\MC900441794[1].png"/>
          <p:cNvPicPr/>
          <p:nvPr/>
        </p:nvPicPr>
        <p:blipFill>
          <a:blip r:embed="rId1"/>
          <a:stretch/>
        </p:blipFill>
        <p:spPr>
          <a:xfrm>
            <a:off x="6781680" y="-304920"/>
            <a:ext cx="2590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B6EE-33E7-4053-96AD-25CF9AF9C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largest form of advertising in U.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ly inexpens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s a limited geographic are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es large number of peo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eople looking to Internet, less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paying to reach thousands outside of you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competition advertised right nex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5F25-4F02-461A-BF63-44B6F8376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phone Directory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phone numbers of people &amp;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y ads will appear on a p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 the listing and phon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Newspaper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repeated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ersuasion in a 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next to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lready know what business they were loo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C:\Users\jsundlin\AppData\Local\Microsoft\Windows\Temporary Internet Files\Content.IE5\JUFR2GF8\MC900433861[1].png"/>
          <p:cNvPicPr/>
          <p:nvPr/>
        </p:nvPicPr>
        <p:blipFill>
          <a:blip r:embed="rId1"/>
          <a:stretch/>
        </p:blipFill>
        <p:spPr>
          <a:xfrm>
            <a:off x="6324480" y="2209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4A01-A6F4-4491-A57E-BB89A2F04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54100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-M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-Mail advertising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ers, catalogs, letters &amp; other correspondence sent to target customers through mai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mailing list which fit your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specialize in maintaining targeted mailing lists and sell them to busines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 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 considered – “Junk Ma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://www.clker.com/cliparts/4/2/1/c/1194985875176225709870a012.svg.med.png"/>
          <p:cNvPicPr/>
          <p:nvPr/>
        </p:nvPicPr>
        <p:blipFill>
          <a:blip r:embed="rId1"/>
          <a:stretch/>
        </p:blipFill>
        <p:spPr>
          <a:xfrm>
            <a:off x="6286680" y="152280"/>
            <a:ext cx="28573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E6A0-917B-498E-8D37-20CD2FD9A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azine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azines are an excellent way to aim products at specific marke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magazine – equipment &amp; appar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n magazine – cosmetics, clothing, sho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agazine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good for limit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 se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" descr="http://a3.espncdn.com/i/insider/insidermagindex/mag_04162012_289x350.jpg"/>
          <p:cNvPicPr/>
          <p:nvPr/>
        </p:nvPicPr>
        <p:blipFill>
          <a:blip r:embed="rId1"/>
          <a:stretch/>
        </p:blipFill>
        <p:spPr>
          <a:xfrm rot="20892600">
            <a:off x="5049360" y="4040280"/>
            <a:ext cx="1963800" cy="2644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http://img2.timeinc.net/people/i/2011/news/110425/jennifer-lopez-300.jpg"/>
          <p:cNvPicPr/>
          <p:nvPr/>
        </p:nvPicPr>
        <p:blipFill>
          <a:blip r:embed="rId2"/>
          <a:stretch/>
        </p:blipFill>
        <p:spPr>
          <a:xfrm rot="591600">
            <a:off x="6908760" y="4013280"/>
            <a:ext cx="20192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44197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do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oor Advertising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boards and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in keep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r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there where many people can se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offer very much 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-by readings must be - short and 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5367240" y="0"/>
            <a:ext cx="3776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42670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signs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transpor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much mo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 than Outdoor 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 and outside of veh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 Transit Ads offers the riders something to read for the duration of the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http://www.toponlinecolleges.com/wp-content/uploads/2011/08/bus.jpg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263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"/>
          <p:cNvPicPr/>
          <p:nvPr/>
        </p:nvPicPr>
        <p:blipFill>
          <a:blip r:embed="rId2"/>
          <a:stretch/>
        </p:blipFill>
        <p:spPr>
          <a:xfrm>
            <a:off x="6477120" y="2590920"/>
            <a:ext cx="2666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9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A3F9-5CBB-444D-823E-B7F6E1741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rketing Mix – Distribu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6-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our basic options of channels of distribu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channels of distribution to the specific needs of various types of busi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actors to consider in the physical distribution of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63F6-0C83-44F1-8BF7-AA5AB9192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onal Strateg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bli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n-paid form of communication that calls attention to your business through media co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ublicity can b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ity is free &amp; large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your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negative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age is unfavor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5" descr="http://www.cloudvirtualoffice.com/sites/default/files/images/blog-images-2012/FreePublicity.jpg"/>
          <p:cNvPicPr/>
          <p:nvPr/>
        </p:nvPicPr>
        <p:blipFill>
          <a:blip r:embed="rId1"/>
          <a:stretch/>
        </p:blipFill>
        <p:spPr>
          <a:xfrm>
            <a:off x="5334120" y="3990960"/>
            <a:ext cx="3809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5ABA-982F-4F73-B803-DCCB374C1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ss Rel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written statement meant to inform the media of an event or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Page 16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ements of a Press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and Beverage Provi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ity Entertai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8FCE-24BC-453A-87B9-EB808557A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ublic Rel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establishing a favorable relationship with customers &amp; general public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wareness and positive public relations can generate business when you show community involvement and commitm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 a community sports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donations to local charity/relief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-based programs through local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members of local Big Brother/Siste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community program - clean up pa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B741-EDAF-4F4F-9B80-3B0F3BF2B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lf-Pro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s keep the company name visible and in the forefront of the people’s min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away t-shirts and hats displaying your company name and logo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ng pens, notepads, coffee mugs, and other useful items printed with company inf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3A86-DF5F-4D57-AE4D-1E1E38E11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y is promotion important to a busi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usiness will not succeed if target customers are not aware of it and what it has to off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are advantages/disadvantages of publi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publicity can be helpful as no-cost (free) advertising. But largely out of the business’s control and if it is negative, it could turn customers awa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9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C7F8-93D5-453D-B836-DC75E2097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lling and Promo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6-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role of selling in a busin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how to meet customer needs &amp; wa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other types of promotion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679F-4187-4161-88EA-7D85E06A8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n Small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think that JoJo is making a good decision in adding a retail clothing line to her dance studio? Why or Why Not?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kinds of promotions do you think JoJo should use to try and attract new custom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8B9C-6335-4E6C-9AA6-E73AD9ABE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onal Strateg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rsonal Se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rect communication between a prospective buyer &amp; a sales r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representative attempts to influence the prospective buyer in a purchase situatio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rough Product Knowledge - Sales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 physical characteristics/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: advantages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7238880" y="5348160"/>
            <a:ext cx="190512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7904-5A61-43AB-8412-DEDA9A40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ling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Customer Needs &amp; W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person finds out as much info about customers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the range of options for the custo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ed Satisf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fulfill consumer nee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blem Re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ssess problem, gather info, act as consultant to assist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26C4-D816-44C1-BA3B-7E829ACEC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ling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Customer Needs &amp; W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ying Decisions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tional B.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logical reasoning of custom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, simplicity, quality, reliability, economy, convenience, service, durability, knowledge, $ gain, eas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motional B.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desire to have specific product</a:t>
            </a:r>
            <a:br>
              <a:rPr sz="24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ings, beliefs and attitude: fear, protection, appearance, recreation, improved health, comfort, recognition, pride, prestige and pop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5574-F510-4805-A2DB-6B605D970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n Small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happen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in’s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Dustin should handle this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8505-0141-439C-A6E8-5D13F4F38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ling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Customer Needs &amp; W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stomer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variou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person can help in this deci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FFF3-6D69-42D2-82D2-2185457C4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onal Strateg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es Pro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incentive offered to customers in order to increase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ests, Free Samples, Rebates, Coupons, Special Events, Gift Certificates, Frequent Buyer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b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refund offered to people who purchase a pro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emark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sing the phone to market your product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CF21-0D56-4AD0-A170-ED9516257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selling important to a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money for the busin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meet customer needs and wants in the selling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s purchase goods and services in order to satisfy needs and wants.  If these cannot be met by the business, no sales will be m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1E2D-1391-4686-834E-291D7134A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nels of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ribu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component of the marketing mix that involves the locations and methods used to make products available to custom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annels of Distribu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s that products and services take from the time they are produced to the time they are consum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16DD-ABB9-47A3-AF19-34F9B92DB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nels of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 Channel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product directly from the manufacturer to consum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direct Channel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channel that uses intermediaries to move products between the manufacturer and the consu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ries: agents and wholesal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D1AF-5196-46F4-A871-628A3F93F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nel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er to Consu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ai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lesa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ol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49  - Channels of Distribution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146A-740F-4669-923F-6D19804EB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 Goods and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ail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your product or service to consumers in a convenient location during convenient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talogs, fliers, and other advertisements to reach customers who live outside th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phone/fax orders and sh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 directly to the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website.  Customers c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about your product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urchases on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http://www.presentermedia.com/files/clipart/00005000/5561/retail_check_out_counter_image_500_clr.png?animid=5561?ismember=?primaryhue=360?reflect=http://www.presentermedia.com/files/clipart/00005000/5561/retail_check_out_counter_reflect_500_clr.png?shad=http://www.presentermedia.com/files/clipart/00005000/5561/retail_check_out_counter_shadow_500_clr.png?userid="/>
          <p:cNvPicPr/>
          <p:nvPr/>
        </p:nvPicPr>
        <p:blipFill>
          <a:blip r:embed="rId1"/>
          <a:stretch/>
        </p:blipFill>
        <p:spPr>
          <a:xfrm>
            <a:off x="6243480" y="4495680"/>
            <a:ext cx="26607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3B4-DC44-49C5-A557-78D6ADCC1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 Goods and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rvice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ell their services directly to 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irect Channel of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and consumption of a service happens all at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occur WH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umer wants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ans, Restaurant Owners, Law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 directly with consumer wanting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http://3.bp.blogspot.com/_YMjLaqQbqxE/THsd5LSJMEI/AAAAAAAABcw/oSl2t0eio_I/s1600/Hair_salon.jpg"/>
          <p:cNvPicPr/>
          <p:nvPr/>
        </p:nvPicPr>
        <p:blipFill>
          <a:blip r:embed="rId1"/>
          <a:stretch/>
        </p:blipFill>
        <p:spPr>
          <a:xfrm>
            <a:off x="5943600" y="3733920"/>
            <a:ext cx="23623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sundlin</cp:lastModifiedBy>
  <dcterms:modified xsi:type="dcterms:W3CDTF">2012-04-30T12:19:58Z</dcterms:modified>
  <cp:revision>914</cp:revision>
  <dc:subject/>
  <dc:title>Chapter 4</dc:title>
</cp:coreProperties>
</file>